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968-5112-44A7-89BD-62CE7CC7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837-7CA3-4A1E-9DFA-51C8D9C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A35-E60F-443C-A6C0-B5584881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1CF-369E-4DBB-8CA9-FCE6C9EE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D16-38C3-4B1D-88E6-B44EC243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410-61A0-4ADC-AAA3-1EFDA26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F64-FBDA-45F5-BA92-823F8CDB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9AD-DD0F-4373-83E8-F443C32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508-B738-424B-8D8E-68FD7AF9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7B0-FA78-4C14-9352-54D4DDF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4A3-1D2E-4DEB-94DE-6FBC1CA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A23-7DD3-4C9D-8938-5CA0CFA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165-5A03-4447-ACC1-D12E0FC12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imulate U.S. imperi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rst for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conomic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a new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cheap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sé Martí organized a guerrilla campaig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troy American-owned property in Cuba in ord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ok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vention in Cu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ive mone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or Cuban 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liate against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volvement in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over family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 U.S.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sé Martí organized a guerrilla campaig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troy American-owned property in Cuba in ord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ok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vention in Cu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liate against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volvement in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of the following countries came under some for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control as a result of the Spanish-American W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of the following countries came under some for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control as a result of the Spanish-American W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l John J. Pershing led a force of fifteen thou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diers in an attempt to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sé Mar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iliano Zap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ncho V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ilio Aquin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l John J. Pershing led a force of fifteen thou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diers in an attempt to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ncho V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ilio Aquin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Boxer Rebellion was an atte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Chinese revolutionar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tore the Manch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ynas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up a democra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vernment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up a Commun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vernment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 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fluence from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Boxer Rebellion was an atte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Chinese revolutionar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up a democra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vernment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 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fluence from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 gained control of the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 needed to build the Panama Canal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porting Panaman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ement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Door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vad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tacking 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gotiating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 gained control of the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 needed to build the Panama Canal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porting Panaman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ement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Door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 what did the Roosevelt Corollary bui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Door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tt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nroe Doct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y-Pauncefote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 what did the Roosevelt Corollary bui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nroe Doct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y-Pauncefote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reason for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 enter the Spanish-Americ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osion of th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 Lôm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 jour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s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ain’s threat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reason for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 enter the Spanish-Americ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 Lôm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ain’s threat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ist that Cuba include in its constit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Boxer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latt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e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oosev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ro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ist that Cuba include in its constit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latt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oosev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ro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sevelt's approach to foreign policy reflected the prover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peak softly and carry a big stick"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 allowed U.S. troops to beat fore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tives for breaking U.S.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gotiations were always b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y the threat of military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 studied West African metho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negotiating with foreign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s soft-spoken personality m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ign leaders trust and admire hi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sevelt's approach to foreign policy reflected the prover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peak softly and carry a big stick"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 allowed U.S. troops to beat fore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tives for breaking U.S.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gotiations were always b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y the threat of military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Open Door Policy was designed as a way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ted States to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s desires to ann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ign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plo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establish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mocratic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s trade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Open Door Policy was designed as a way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ted States to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plo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00600" y="5486400"/>
            <a:ext cx="3505320" cy="762120"/>
            <a:chOff x="4800600" y="5486400"/>
            <a:chExt cx="3505320" cy="762120"/>
          </a:xfrm>
        </p:grpSpPr>
        <p:sp>
          <p:nvSpPr>
            <p:cNvPr id="553" name=""/>
            <p:cNvSpPr/>
            <p:nvPr/>
          </p:nvSpPr>
          <p:spPr>
            <a:xfrm>
              <a:off x="4800600" y="5715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486400"/>
              <a:ext cx="342900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ts trade intere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563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apid growth of industry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ped fuel imperialism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 needed unspoiled pla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ts workers to va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ns had more time to r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bout foreign pla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was producing t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goods for its own people to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ns wanted to take over 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tories and learn their secr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apid growth of industry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ped fuel imperialism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 needed unspoiled pla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ts workers to va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was producing t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goods for its own people to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was the purpose of the Foraker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end military rule and set up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vernment in Puerto 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grant Puerto Rican resid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.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give Cuba and Puerto Rico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end the Puerto Rican upr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was the purpose of the Foraker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end military rule and set up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vernment in Puerto 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grant Puerto Rican resid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.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following statements, the one that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flects an anti-imperialist attitu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expansion of our trad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erce is the pressing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 there no nation wise enough, b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ough to aid this blood-smitten 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te has written our policy for 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trade of the world shall be ou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 is not necessary to ow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ople to trade with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following statements, the one that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flects an anti-imperialist attitu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 there no nation wise enough, b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ough to aid this blood-smitten 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 is not necessary to ow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ople to trade with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imulate U.S. imperi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rst for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conomic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a new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cheap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i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litary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belief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ltural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7-02-01T12:34:49Z</dcterms:modified>
  <cp:revision>245</cp:revision>
  <dc:subject/>
  <dc:title>PowerPoint Presentation</dc:title>
</cp:coreProperties>
</file>